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8BA35E-EFCD-417B-9C34-8C907B704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46A59F-3C74-4DB4-9294-6948BA6622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BBF5CAD-10B5-4E9C-A0D1-75EB1A28AD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392BED-3E90-441B-ADB9-88C58957FE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A0F03D-B1AB-473D-AA42-1CCDFA988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8E09B3-4D1A-4B2C-B15E-B86D07734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625C0A-DC96-469C-BCD1-C9F826A45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1FCF558-DC5A-4E82-AABB-A80F167D9E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03008CB-3995-4BFE-AE1B-938B3B4B45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595B99D-475D-4423-AB17-774715E3C3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978680D-4E75-4048-AEBB-885A1C36C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22C5745-4196-4BB6-A815-98EFC3308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AF42E38-3542-4CA7-9FA6-C31FB2F0C0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5BD8C4-2428-4CA7-9B9F-A1F48C59F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8F27EB4-F32F-40EB-B3A9-674B8D39C0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5BC8E4-BCE9-4CCD-9487-3152F5B415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CA7845-C9D1-4059-B183-9B868D97E1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215925C-AB12-4F87-93B5-DFF931DB2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53B7B6-1731-4416-87C7-1F14EF4CB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45ACAA-7D69-4C62-A5A2-D2A266335D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50D6B7-F798-43DB-BE04-7420D2256A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37F2C7-BBD4-4F02-B9E1-C2351F290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8A1DAB-28C6-4514-8327-24E5D7B695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E6BE6F-FC7A-4184-9FBA-C3DF97CE17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F24E74-EDF3-4D07-9A49-4C6D385174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6CF6D5-D818-4047-8192-E48AB970C5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30FB7C-0C1D-4C32-A804-071695389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1AEB0E-7774-4FFC-8DB8-0E7ACAA590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BDAA38-C93D-4EA2-9FF1-41717E734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CB16ED-CC42-40BD-8F06-E2B7C95655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98BE14-3313-4983-9059-2013C5FF0F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EEBDA5-873F-4348-96A6-883C967EDD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760DF4-3A92-4191-810A-7043090B3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3121DC-E600-4B67-9385-047A5A9E0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A747EE-1A45-4FF8-B020-85308B048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CED2C3-6532-460C-A5FA-21AA7C9A2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B541FE-6517-4AE3-B752-218372D4E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8BEC01-1FD1-4141-B851-73DBBFF29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77C80B7-D402-4F46-AE44-7DD02C6CFE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9C8E105-E01D-4813-A113-C2EA7A855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3C965C-DE06-4972-8626-30C8CDA2D2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FC0B564-551E-43A5-8437-7C69662FD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95D79D3-9F5B-4A1B-A224-9FB0DE7BD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4A4EF0-8887-40BC-A910-6B726D37E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D84716-B7FA-47D9-933C-6ADC3F40BE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5D7661-B277-4633-AA27-9921E3964D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CD962D-7F63-4746-BD16-E499EA2B8F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8E5DC1-25E9-4DFF-80D2-7799B8E4BB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A247293-A557-4E8F-A567-72D625B79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340A81-74F1-4B5E-A05B-7C0BF9C8C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56AA14-0DA9-4265-B992-C216C4BBE7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8622A8-4156-43FD-A659-4724F2030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43F7A6-92A0-42B4-9E68-E8D433D846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B4403E-47D8-4B0F-97F8-F2E357564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E9D23B-AA2C-4BC0-9001-1740F5320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8612B1-1FA7-4D01-A095-F4FA1AACA6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B68D18-5692-459D-9933-BDDBDF2318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6B5AA3-895D-4992-88F7-DCF4189DD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310B466-3223-474C-B05F-4F941D48C5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BC8814-8A69-45F7-9A83-966CD966D5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53BDD5-0F3F-4A49-A230-99C6D9C25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4B3151-054F-4B4A-8521-FC24E010E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AD0D590-3C90-4A6C-8E62-B6E2B59A25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E9B4EE6-72FD-4853-B9F0-6107BF250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979-36F0-4081-B917-E7385C3B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E2D-4C41-4485-B1F3-0EE53D7B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9DA-FF8C-4198-A985-9C7C6736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80A-93E6-4043-92C9-D2ED6D12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AD2A3-635D-4D51-863B-A443BB3A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74943-478C-4DB2-B579-A37BDE5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DD7B2-BCA1-419A-AEEB-24FEC218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0F8D4-F7CA-4248-98A9-F2ECEF1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9EBC0-30C3-45A3-A779-77179959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D53A0-FC7C-451D-800D-C4C5DF4E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75DB-B709-42C2-84C5-28DA6C9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AB7-C663-4F4A-898F-762DE2F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A6F68-8400-4512-BA44-EFBC896D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A95C0-D898-40F9-A3E8-F6F65B39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1D4E5-BDAF-45B4-BB16-9EE7E0F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36A61-BDF7-4D86-AC21-ACE78085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19A00-8E4F-4188-AFCA-06CAEE1B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96E-ADBF-4BB2-9063-278DA935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E69-0DD6-4F9D-BDF6-5318D91A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D48-66F8-4EF2-BD93-E19DD3F3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FE9-EBC9-4BAD-87AA-0120DED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C27-9934-4985-9407-76746DA9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EF2-D50E-4332-9EB7-3595013A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64C-885D-4107-97E5-3BC263B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5B24-2DAC-47A3-923F-2A56B03F6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F939-2955-4A63-85F0-B984CC9052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edff"/>
                </a:solidFill>
                <a:latin typeface="Arial"/>
              </a:rPr>
              <a:t>Carpal Tunnel Syndrome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cey Harris-Carriman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n Conference, CCR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8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: Smoking, alcohol, poor nutrition, obesity, high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www.ganfyd.org/images/thumb/b/b2/Arm_nerves.png/300px-Arm_nerve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variety of symptoms in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ymptoms are more suggestive of CTS than other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symptoms in 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ing up with pain and numbness/paresthesias of the h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ed by driving, holding phone, reading book, typing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ck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han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amiliar with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neuroanat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factors involved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goals and limitations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signs suggestive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f the lateral 3-1/2 dig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APB and other median-innervated muscles of thenar emin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en’s, reverse Phal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: Pressure provocation test, hand elevation test, tournique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s://www46.safesecureweb.com/positivehealth/permit/Articles/Massage/green5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 </a:t>
            </a:r>
            <a:r>
              <a:rPr b="0" lang="en-US" sz="4400" spc="-1" strike="noStrike" u="sng">
                <a:solidFill>
                  <a:srgbClr val="b3edff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consistent with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ver the lateral palm (thenar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proximal to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hypothenar muscles or other non-median-innervat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eep tendon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ical radicul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chial plex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imal median neuropathy (e.g. in forearm or elb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ononeuroapthy  (e.g. ulnar, rad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lying polyneur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S (e.g. TIA, small lacunar infarct, myelopath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er pain with distal paresth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teoart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trauma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Cervical Radicul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mild cases of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6, C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pain, radiation to shoulder, arm, +/- dis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e with neck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reflexes a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loss beyond distribution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 Brachial Plex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olog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,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ed radiation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op (e.g. CAB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cause of brachial plex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/motorcycle/bike accident, new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trunk C5/6-Erb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trunk C8/T1-Klumpke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trating (knife, bul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oplasm,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is to lymph node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especially lymphoma, breast, 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tumor: Pan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filration of nerve: Lymphoma, leuk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: Primary nerve sheath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eoplastic (unusual): hematoma, vascular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ayed Radi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Progressive, years after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correlated with dose of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x prominent (paresthesias, numb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Recurrent) Ne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Slowly pro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nent p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ner’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chial 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 Neuralgic amyotrophy, Parsonage-Tur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eceded by: viral illness or immunization; also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horacic nerve, anterior interosseous nerve,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e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days to weeks after inciting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pain, awakens fro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and atro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Generally after pain subsides (1-2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/- Sensory s/s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rogenic 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due to fibrous band between cervical rib a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r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trunk, C8/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s: hand intrinsic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 then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1; +/- FPL, F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: Ulnar, M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roximal Median 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DDx: Proximal Median Neuropath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ment of Stru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Interosseou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motor: FPL, PQ, FDP  to #2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y”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or Syndr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sites of entra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ator t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ertus fibrosus (b/t biceps tendon and proximal flexor forearm musc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neurotic ridge of FDS (sublimis 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S: Other Mono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, Ra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efinition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ellation of symptoms and sig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ondary to a median neuropathy at the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eripheral Poly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867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: Cervical Mye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: Shoulder Pathology with Distal Paresthes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/EMG and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Nerve Conduction Studies (NCS)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NOTE: NCS sometimes called NCV “Nerve Conduction Velocity”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 here of NCS se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http://www.eorthopod.com/images/ContentImages/hand/hand_carpal_tunnel/hand_carpal_tunnel_diagnos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clin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CS study must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is positive in 91-98% of patients with clinically diagnose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Source: Keles et al, Diagnostic precision of ultrasonography in patients with CTS, Am J Phys Med Rehabil 200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of false negatives on NC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nerally implies very mil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imaging of median nerve in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 and quantit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ca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area (CSA)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ing of flexor retina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tening of median nerve in carpal tu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new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treatment, ultrasound-guided injection of steroid into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reatment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http://z.about.com/d/orthopedics/1/0/4/5/wristsplint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-781200" y="-114480"/>
            <a:ext cx="107064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TS: 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CTS is made 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istory, physical, 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 cas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can be a helpful adjunct in assessing and treating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carriman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percentage of CTS due to an identifiable cause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, RA, thyroid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s that increase total body fluid (e.g. pregnancy, hemodialy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wrist lesion (e.g. cyst, fracture, infection, tum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(e.g. small carpal tu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: F 3x&gt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&gt; younger; very rare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revalence in women &gt;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that use hands and wrists repetitively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with high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0:53:09Z</dcterms:created>
  <dc:creator>Stacey</dc:creator>
  <dc:description/>
  <dc:language>en-US</dc:language>
  <cp:lastModifiedBy>lthomas</cp:lastModifiedBy>
  <dcterms:modified xsi:type="dcterms:W3CDTF">2009-05-08T15:14:56Z</dcterms:modified>
  <cp:revision>65</cp:revision>
  <dc:subject/>
  <dc:title>Carpal Tunnel Syndrome</dc:title>
</cp:coreProperties>
</file>